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597A-D716-4B37-A8A4-A7AB7DC593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and Properties of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and Properties of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plastics (8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ross links betwee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ttractive forces between chains broken by w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shape - can be remoul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forces reform in new shape when c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plastics (8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ross links betwee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ttractive forces between chains broken by w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shape - can be remoul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forces reform in new shape when c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cross-linking formed by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prevent chains moving relative to each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e properties of this type of plastic be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cross-linking formed by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prevent chains moving relative to each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e properties of this type of plastic be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chains make stronger poly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al length needed before strength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arbon polymers average of 100 repeating units necessary but only 40 for nyl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ile strength measures the forces needed to snap a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angles + more tou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chains make stronger poly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al length needed before strength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arbon polymers average of 100 repeating units necessary but only 40 for nyl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ile strength measures the forces needed to snap a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angles + more tou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ystalline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eas in polymer where chains packed in regular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h amorphous and crystalline areas in sam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ystalline - regular chain structure - no bulky side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crystalline polymer - stronger and less flex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line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in polymer where chains packed in regular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amorphous and crystalline areas in sam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line - regular chain structure - no bulky side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rystalline polymer - stronger and less flex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-dr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olymer is stretched a ‘neck’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to the chains in the ‘neck’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drawing is used to increase a polymers’ strength. Why then do the handles of plastic carrier bags snap if you fill them full of tins of be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-dr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olymer is stretched a ‘neck’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to the chains in the ‘neck’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drawing is used to increase a polymers’ strength. Why then do the handles of plastic carrier bags snap if you fill them full of tins of be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 molecule made up from lots of small molecules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 molecule made up from lots of small molecules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ame mon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all same type (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A + A + A 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A-A-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(ethene) polychloroethene  P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ame mon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all same type (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A + A + A 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A-A-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(ethene) polychloroethene  P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mon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 of two different types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B +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B-A-B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am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mon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 of two different types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B +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B-A-B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am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contain C=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bond opens to (link) bond to next monomer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orms when same basic unit is repeated over and o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polymers also developed based on alkynes R-C    C - 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contain C=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bond opens to (link) bond to next monomer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orms when same basic unit is repeated over and o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polymers also developed based on alkynes R-C    C - 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ore than one monomer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rregular chain structure will result eg propene/ethene/propene/propene/eth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polymers designers want to design a polymer in this w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 Intermolecular bond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ore than one monomer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rregular chain structure will result eg propene/ethene/propene/propene/eth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polymers designers want to design a polymer in this w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 Intermolecular bond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stomers, plastics &amp; fi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definition and suggest your own example of each of the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stomers, plastics &amp; fi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definition and suggest your own example of each of the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ecides the properties of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ttractive forces between chains = stronger, less flexibl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s able to slide past each other = flexible polymer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y(ethene) attractive forces are weak instantaneous dipole - induced dipole, will it be flexible or no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ylon has strong hydrogen bonds, why does this make it a strong fib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ecides the properties of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ttractive forces between chains = stronger, less flexibl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s able to slide past each other = flexible polymer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y(ethene) attractive forces are weak instantaneous dipole - induced dipole, will it be flexible or no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ylon has strong hydrogen bonds, why does this make it a strong fib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ideas stra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page 110 -111 of Chemical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urns in explaining to a partner how the following molecular structures affect the overall properties of polymers :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length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ide group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branching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regularity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lexibility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l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ideas stra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page 110 -111 of Chemical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urns in explaining to a partner how the following molecular structures affect the overall properties of polymers :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length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ide group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branching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regularity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lexibility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l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9CC5-86B9-47C4-B35B-E63A0CF7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21CB-1C66-4616-B977-535E161F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3F7-C95E-4CC0-8074-875089DA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F851-2B32-4F57-BED7-A05E8875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943E-8F80-44D6-BEC5-3847AE0E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22BB-79C4-46CD-8095-1487931E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929E-492B-42C5-8D25-A33F5A14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41A0-D4F8-43A4-8954-C257A036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BA7A-C056-46D3-AF9C-7EF70E13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DE80-7B59-4B73-BA8C-4D499D89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7550-5C4D-4DED-B522-29B0D321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253C-138E-49D3-B22F-89C268F2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9831-12A1-4319-A8B0-FCA28CF1E9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tructure and Properties of Poly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95480" y="2590920"/>
            <a:ext cx="3657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so known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nding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KISS"/>
          <p:cNvPicPr/>
          <p:nvPr/>
        </p:nvPicPr>
        <p:blipFill>
          <a:blip r:embed="rId1"/>
          <a:stretch/>
        </p:blipFill>
        <p:spPr>
          <a:xfrm>
            <a:off x="1752480" y="3429000"/>
            <a:ext cx="1152720" cy="185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Object 8"/>
          <p:cNvGraphicFramePr/>
          <p:nvPr/>
        </p:nvGraphicFramePr>
        <p:xfrm>
          <a:off x="6553080" y="3809880"/>
          <a:ext cx="1268640" cy="190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3809880"/>
                    <a:ext cx="12686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rmoplastics (8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3504960"/>
            <a:ext cx="76197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cross links between cha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attractive forces between chains broken by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warm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nge shape - can be remoul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forces reform in new shape when c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thermoplastic"/>
          <p:cNvPicPr/>
          <p:nvPr/>
        </p:nvPicPr>
        <p:blipFill>
          <a:blip r:embed="rId1"/>
          <a:stretch/>
        </p:blipFill>
        <p:spPr>
          <a:xfrm>
            <a:off x="1447920" y="1600200"/>
            <a:ext cx="6476760" cy="19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rmo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240" y="3428640"/>
            <a:ext cx="6705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tensive cross-linking formed by covalent b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nds prevent chains moving relative to each oth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will the properties of this type of plastic be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1" descr="thermoset"/>
          <p:cNvPicPr/>
          <p:nvPr/>
        </p:nvPicPr>
        <p:blipFill>
          <a:blip r:embed="rId1"/>
          <a:stretch/>
        </p:blipFill>
        <p:spPr>
          <a:xfrm>
            <a:off x="1371600" y="1447920"/>
            <a:ext cx="701028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onger chains make stronger polym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1752480"/>
            <a:ext cx="4724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ritical length needed before strength increas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Hydrocarbon polymers average of 100 repeating units necessary but only 40 for nyl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ensile strength measures the forces needed to snap a polym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ore tangles + more touching!!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10"/>
          <p:cNvGraphicFramePr/>
          <p:nvPr/>
        </p:nvGraphicFramePr>
        <p:xfrm>
          <a:off x="239760" y="2133720"/>
          <a:ext cx="3417840" cy="35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2133720"/>
                    <a:ext cx="341784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ystalline poly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reas in polymer where chains packed in regular wa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oth amorphous and crystalline areas in same polym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rystalline - regular chain structure - no bulky side group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ore crystalline polymer - stronger and less flex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7"/>
          <p:cNvGraphicFramePr/>
          <p:nvPr/>
        </p:nvGraphicFramePr>
        <p:xfrm>
          <a:off x="4973760" y="1600200"/>
          <a:ext cx="345096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73760" y="1600200"/>
                    <a:ext cx="34509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ld-dra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3962160"/>
            <a:ext cx="80769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a polymer is stretched a ‘neck’ fo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happens to the chains in the ‘neck’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ld drawing is used to increase a polymers’ strength. Why then do the handles of plastic carrier bags snap if you fill them full of tins of bea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7"/>
          <p:cNvGraphicFramePr/>
          <p:nvPr/>
        </p:nvGraphicFramePr>
        <p:xfrm>
          <a:off x="1447920" y="1295280"/>
          <a:ext cx="6248160" cy="27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624816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is a polym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259056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long molecule made up from lots of small molecules call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onom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5"/>
          <p:cNvGrpSpPr/>
          <p:nvPr/>
        </p:nvGrpSpPr>
        <p:grpSpPr>
          <a:xfrm>
            <a:off x="685800" y="1981080"/>
            <a:ext cx="3809880" cy="4114800"/>
            <a:chOff x="685800" y="1981080"/>
            <a:chExt cx="3809880" cy="4114800"/>
          </a:xfrm>
        </p:grpSpPr>
        <p:grpSp>
          <p:nvGrpSpPr>
            <p:cNvPr id="56" name="Group 6"/>
            <p:cNvGrpSpPr/>
            <p:nvPr/>
          </p:nvGrpSpPr>
          <p:grpSpPr>
            <a:xfrm>
              <a:off x="685800" y="1981080"/>
              <a:ext cx="3809880" cy="4114800"/>
              <a:chOff x="685800" y="1981080"/>
              <a:chExt cx="3809880" cy="4114800"/>
            </a:xfrm>
          </p:grpSpPr>
          <p:sp>
            <p:nvSpPr>
              <p:cNvPr id="57" name="Rectangle 7"/>
              <p:cNvSpPr/>
              <p:nvPr/>
            </p:nvSpPr>
            <p:spPr>
              <a:xfrm>
                <a:off x="685800" y="1981080"/>
                <a:ext cx="3809880" cy="4114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Group 8"/>
              <p:cNvGrpSpPr/>
              <p:nvPr/>
            </p:nvGrpSpPr>
            <p:grpSpPr>
              <a:xfrm>
                <a:off x="1031760" y="2310120"/>
                <a:ext cx="2943720" cy="2921040"/>
                <a:chOff x="1031760" y="2310120"/>
                <a:chExt cx="2943720" cy="2921040"/>
              </a:xfrm>
            </p:grpSpPr>
            <p:sp>
              <p:nvSpPr>
                <p:cNvPr id="59" name="Oval 9"/>
                <p:cNvSpPr/>
                <p:nvPr/>
              </p:nvSpPr>
              <p:spPr>
                <a:xfrm>
                  <a:off x="1031760" y="461412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Oval 10"/>
                <p:cNvSpPr/>
                <p:nvPr/>
              </p:nvSpPr>
              <p:spPr>
                <a:xfrm>
                  <a:off x="1291320" y="484740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11"/>
                <p:cNvSpPr/>
                <p:nvPr/>
              </p:nvSpPr>
              <p:spPr>
                <a:xfrm>
                  <a:off x="2619000" y="477864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12"/>
                <p:cNvSpPr/>
                <p:nvPr/>
              </p:nvSpPr>
              <p:spPr>
                <a:xfrm>
                  <a:off x="1637640" y="490212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13"/>
                <p:cNvSpPr/>
                <p:nvPr/>
              </p:nvSpPr>
              <p:spPr>
                <a:xfrm>
                  <a:off x="1969920" y="482004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14"/>
                <p:cNvSpPr/>
                <p:nvPr/>
              </p:nvSpPr>
              <p:spPr>
                <a:xfrm>
                  <a:off x="2272680" y="469656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Group 15"/>
                <p:cNvGrpSpPr/>
                <p:nvPr/>
              </p:nvGrpSpPr>
              <p:grpSpPr>
                <a:xfrm>
                  <a:off x="1031760" y="2310120"/>
                  <a:ext cx="2943720" cy="1371240"/>
                  <a:chOff x="1031760" y="2310120"/>
                  <a:chExt cx="2943720" cy="1371240"/>
                </a:xfrm>
              </p:grpSpPr>
              <p:sp>
                <p:nvSpPr>
                  <p:cNvPr id="66" name="Oval 16"/>
                  <p:cNvSpPr/>
                  <p:nvPr/>
                </p:nvSpPr>
                <p:spPr>
                  <a:xfrm>
                    <a:off x="1551240" y="231012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Oval 17"/>
                  <p:cNvSpPr/>
                  <p:nvPr/>
                </p:nvSpPr>
                <p:spPr>
                  <a:xfrm>
                    <a:off x="2243880" y="280368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Oval 18"/>
                  <p:cNvSpPr/>
                  <p:nvPr/>
                </p:nvSpPr>
                <p:spPr>
                  <a:xfrm>
                    <a:off x="2590200" y="231012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Oval 19"/>
                  <p:cNvSpPr/>
                  <p:nvPr/>
                </p:nvSpPr>
                <p:spPr>
                  <a:xfrm>
                    <a:off x="1724400" y="296820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Oval 20"/>
                  <p:cNvSpPr/>
                  <p:nvPr/>
                </p:nvSpPr>
                <p:spPr>
                  <a:xfrm>
                    <a:off x="2763720" y="296820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Oval 21"/>
                  <p:cNvSpPr/>
                  <p:nvPr/>
                </p:nvSpPr>
                <p:spPr>
                  <a:xfrm>
                    <a:off x="3629520" y="263916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Oval 22"/>
                  <p:cNvSpPr/>
                  <p:nvPr/>
                </p:nvSpPr>
                <p:spPr>
                  <a:xfrm>
                    <a:off x="1955520" y="335232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Oval 23"/>
                  <p:cNvSpPr/>
                  <p:nvPr/>
                </p:nvSpPr>
                <p:spPr>
                  <a:xfrm>
                    <a:off x="1031760" y="247428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Oval 24"/>
                  <p:cNvSpPr/>
                  <p:nvPr/>
                </p:nvSpPr>
                <p:spPr>
                  <a:xfrm>
                    <a:off x="1031760" y="313272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" name="Oval 25"/>
                <p:cNvSpPr/>
                <p:nvPr/>
              </p:nvSpPr>
              <p:spPr>
                <a:xfrm>
                  <a:off x="3614760" y="468288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26"/>
                <p:cNvSpPr/>
                <p:nvPr/>
              </p:nvSpPr>
              <p:spPr>
                <a:xfrm>
                  <a:off x="3312000" y="486108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27"/>
                <p:cNvSpPr/>
                <p:nvPr/>
              </p:nvSpPr>
              <p:spPr>
                <a:xfrm>
                  <a:off x="2980080" y="473760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" name="Line 28"/>
            <p:cNvSpPr/>
            <p:nvPr/>
          </p:nvSpPr>
          <p:spPr>
            <a:xfrm flipH="1">
              <a:off x="2762280" y="3627000"/>
              <a:ext cx="3600" cy="65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l the same mono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omers all same type (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+ A + A + A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A-A-A-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g poly(ethene) polychloroethene  PV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5105520" y="2362320"/>
          <a:ext cx="1600200" cy="15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362320"/>
                    <a:ext cx="160020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5"/>
          <p:cNvGraphicFramePr/>
          <p:nvPr/>
        </p:nvGraphicFramePr>
        <p:xfrm>
          <a:off x="6248520" y="3809880"/>
          <a:ext cx="1676160" cy="163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3809880"/>
                    <a:ext cx="1676160" cy="16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t mono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609480" y="2057400"/>
          <a:ext cx="17179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17179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omers  of two different types A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+ B + A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A-B-A-B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g polyam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lye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5"/>
          <p:cNvGraphicFramePr/>
          <p:nvPr/>
        </p:nvGraphicFramePr>
        <p:xfrm>
          <a:off x="1981080" y="4038480"/>
          <a:ext cx="1069920" cy="18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038480"/>
                    <a:ext cx="10699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ddition polymer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nomers contain C=C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uble bond opens to (link) bond to next monomer molec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in forms when same basic unit is repeated over and o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rn polymers also developed based on alkynes R-C    C - R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10"/>
          <p:cNvGrpSpPr/>
          <p:nvPr/>
        </p:nvGrpSpPr>
        <p:grpSpPr>
          <a:xfrm>
            <a:off x="3211560" y="5410080"/>
            <a:ext cx="312840" cy="168120"/>
            <a:chOff x="3211560" y="5410080"/>
            <a:chExt cx="312840" cy="168120"/>
          </a:xfrm>
        </p:grpSpPr>
        <p:sp>
          <p:nvSpPr>
            <p:cNvPr id="94" name="Line 7"/>
            <p:cNvSpPr/>
            <p:nvPr/>
          </p:nvSpPr>
          <p:spPr>
            <a:xfrm>
              <a:off x="3211560" y="5410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8"/>
            <p:cNvSpPr/>
            <p:nvPr/>
          </p:nvSpPr>
          <p:spPr>
            <a:xfrm>
              <a:off x="3211560" y="54864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3219480" y="5578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polymer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more than one monomer i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 irregular chain structure will result eg propene/ethene/propene/propene/eth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might polymers designers want to design a polymer in this w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Hint) Intermolecular bond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astomers, plastics &amp; fib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nd a definition and suggest your own example of each of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4800600" y="1828800"/>
          <a:ext cx="2209680" cy="13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828800"/>
                    <a:ext cx="220968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5"/>
          <p:cNvGraphicFramePr/>
          <p:nvPr/>
        </p:nvGraphicFramePr>
        <p:xfrm>
          <a:off x="7010280" y="3048120"/>
          <a:ext cx="1265400" cy="15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3048120"/>
                    <a:ext cx="1265400" cy="15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6"/>
          <p:cNvGraphicFramePr/>
          <p:nvPr/>
        </p:nvGraphicFramePr>
        <p:xfrm>
          <a:off x="5105520" y="4038480"/>
          <a:ext cx="1815840" cy="144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4038480"/>
                    <a:ext cx="18158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decides the properties of a polym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er attractive forces between chains = stronger, less flexible poly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ins able to slide past each other = flexible polymer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poly(ethene) attractive forces are weak instantaneous dipole - induced dipole, will it be flexible or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ylon has strong hydrogen bonds, why does this make it a strong fib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tting ideas stra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ok at page 110 -111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hemical Idea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ke turns in explaining to a partner how the following molecular structures affect the overall properties of polymers :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chain length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6600ff"/>
                </a:solidFill>
                <a:latin typeface="Times New Roman"/>
              </a:rPr>
              <a:t>different side group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990099"/>
                </a:solidFill>
                <a:latin typeface="Times New Roman"/>
              </a:rPr>
              <a:t>chain branching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66ff33"/>
                </a:solidFill>
                <a:latin typeface="Times New Roman"/>
              </a:rPr>
              <a:t>stereoregularity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6699"/>
                </a:solidFill>
                <a:latin typeface="Times New Roman"/>
              </a:rPr>
              <a:t>chain flexibility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993300"/>
                </a:solidFill>
                <a:latin typeface="Times New Roman"/>
              </a:rPr>
              <a:t>cross lin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9:41:42Z</dcterms:created>
  <dc:creator>M Tyrrell</dc:creator>
  <dc:description/>
  <dc:language>en-US</dc:language>
  <cp:lastModifiedBy>RomaK</cp:lastModifiedBy>
  <dcterms:modified xsi:type="dcterms:W3CDTF">2015-09-02T06:00:53Z</dcterms:modified>
  <cp:revision>28</cp:revision>
  <dc:subject/>
  <dc:title>The Structure and Properties of Polymers</dc:title>
</cp:coreProperties>
</file>